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5A7-4B12-4B54-AC53-0D035F30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A1C-62FF-4674-9076-9BDAB689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8BEFD-4F57-4398-B4C7-01FFA2BA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6EDBB-0557-4EA0-A3B8-871D4C1B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7455F-1359-4086-8B80-D2FB0440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C9A23-589A-46C2-922E-7BF5B33F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8A48B-C97C-4DF4-8A36-AD85A16A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7BB69-4189-42BE-AA9F-ED42F6C5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31164-277C-4B4B-BCF9-C8B9ADB1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C12A7-8346-4B9C-B1F0-74255932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EF5A3-776D-4A46-B129-2E14BC02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26A2D-A022-4182-8D13-90CFDF37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F61-30CD-4C43-8AF1-51268FDF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C6B46-B84E-4701-88EE-85D0E25A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A9C0E-FEC1-420A-9D46-6FD147BB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B1E67-1BD7-469B-8F71-C3EBE4B8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8F1F7-ECFB-4313-A493-13FC12A4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E9F16-0AC5-426D-95E6-303FA484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3BF6B-861A-452E-8A48-BCF3FFEB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577D2-6742-459D-840F-7772BD6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7454D-DD54-4714-B376-586F2D6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8181A-877F-4AF2-85A2-F8E9C5FE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8F173-BEE4-4345-AC86-6A5E7A0E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FD3-6A9C-468F-90E3-99A10D8A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00326-B394-49AD-AAA4-6252E4CB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3FE21-81CA-4D13-94E7-F95DD0EB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29904-4CF7-44B8-AAD2-26E61086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50B84-6130-42A3-B5B2-352D3063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82C02-405B-43CB-AE66-0DA7D5F7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3E5C6-8472-405D-A60A-FFF725FF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41A2F-41AB-4732-B237-5470204B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63CEB-BC74-44B7-9889-071F802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3B3A2-819F-4010-84E9-B0C3D24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0117B-2CBC-456D-9A2E-7FCB438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7D9E-CD68-4631-AAF0-5556BD91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7B0B2-936E-4196-8F0C-2BA47598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AE252-46BC-47C7-BB53-54898CE7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6D920-5008-47C5-A5D8-C8DF64A0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223D0-44AB-4F1F-AA55-1FAE1374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637E1-EE89-4030-BC3A-08AA4521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80C0A-EAF9-4E99-85A0-AAC22316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F6A0F-413E-46D3-A8FC-0A387917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BD771-E87A-438D-8D19-D1F5AD50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6A045-957E-4CEB-89D3-C03AF83B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9E7E3-79F7-4A6D-9548-3C2CAEE7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537B-7B51-496D-A69D-00D18CD6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BBD67-2281-4480-800F-6E39196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3D737-2595-4A2F-8EE4-7BF05FAC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8D4D0-3BA0-4B65-A7B4-C5A58992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DB73D-5D13-40EF-A484-4F0EFCE0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2EB14-7902-4771-ABD5-E3237F71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D138F-2FFF-4AE5-AA51-D1DBD3F6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40B86-0BA3-4354-8E1E-C175D87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D21D4-1F59-4E3F-A13F-B369F283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C25CC-548B-42CC-95E4-42CB1E1B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DFE07-A4F4-451A-8E28-1C73C198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CAD0-C5E5-4542-BD99-BE57EF28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A21E7-D081-4481-883C-186C35CC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DA246-E390-49CF-A706-457B5A8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059DA-C5EE-472A-93B5-A8FA6C9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B97AB-908D-431C-AFE2-2A70C632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90CFE-848B-40B6-ABCD-A3AFF138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99C36-AB47-426C-97EE-D41EA088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7B6F5-435D-4C2E-8965-9D724F01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6B1F6-E2AE-40B3-BC11-E3B62423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013EE-7DED-4E0E-9D1C-2478AB7C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3EE8F-1AE1-41AE-A7BC-CD2B1DA7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1B6A-89F6-4BF4-A1C4-3DD71654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CAD2F-4C12-4097-A3E2-84D400A1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7675C-AB4F-4906-9D55-FE6D0CC6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751B9-9822-4E4C-A56B-728B7F26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E0012-E04C-49D0-A82F-A638ACB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AF701-48EE-4CA1-A809-A3218D37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C8E3E-FDBD-455A-9A21-9995AC4B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022F1-D9C5-4C1D-AC4A-8CF927AE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11DB5-3B20-4754-AE72-554215EE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73511-1878-46DA-8A0A-FEB640B0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F98BB-088D-4ADC-9697-704BAB91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44A5-F577-4BCA-8D31-B557CAE1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FF459-5FD4-4443-BFC0-0AC3E9E5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625CB-91A4-4B64-86B1-DF80D4A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279AC-F392-4BBA-AA65-AB70719F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775A8-815D-4894-B781-A8842215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43FC7-37AD-4274-A146-0FF8BED0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B272C-658E-497F-91F6-3928F5C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CB68E-0B2C-4B4A-8515-A88369CB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A095A-57C5-42B1-90C7-64281DE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A9B85-931D-47A5-9849-15DD821A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9A0B3-97C4-4FE6-89D7-8B2F763E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3F04-9F05-4A8F-8029-F548C3DE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4A535-B91B-4EFB-8C5D-BACF79D1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42169-6E26-4F63-89FC-D1268F2E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62330-A062-4424-88F0-CA809265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103CB-C92E-4139-8AC2-5FE7EEB4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5D6CB-8FEF-4DE5-B9F8-DFE96667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80154-CF99-4184-A358-C71C8636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CBCA1-531F-4727-82D5-F04D0E28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13B7E-288A-416E-BC83-6D0C3166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85D41-EAC2-4534-A63F-E6D9DF7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9E1FF-179A-408A-AE66-42872AF0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2758-E7BE-4462-A2F4-1BB5824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D2649-6768-4766-B95F-B0C483C0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7E804-C761-4618-9DC9-2C2268AF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2CDBE-72C1-4A1C-B559-6F4A2488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ACD85-7F6E-4B4B-AE0B-B3510BE9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D6EF5-200F-4110-B39A-BD272BE7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E81223-3365-464E-A508-AEB0E59E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44662-F056-4F5E-ABB7-6E703439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794528-6860-466C-B3A1-B3915E2C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BFCBA-65F8-44B6-8115-7400F08C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9E2F9-135E-41BA-83DF-2B63EFB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6C8-A818-4DD2-98FE-5EE99CB2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5D2C-6384-4670-97F8-921BB95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25574-5D12-46C0-87E1-8AA1CD2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14A17-3CC6-4893-BB14-A4CECB6C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87DE9C-BB66-4BCD-94F2-EEE3263B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5DEA5-E46A-44A2-8BB7-27805B44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55F9F-3C70-4551-B548-7A9EA115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E9EB3-515D-4D56-B6F2-EA04E8DD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9D888-883F-401D-9BC8-8B0B68DD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A1710-F169-4AAC-9F49-16F3147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45DBF-FD29-4F99-92F3-9B9403C4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19ED40-2A00-4150-AC0D-D1DA1964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5236-BB27-408D-BF9E-D6C09E33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64FCA-1D76-487F-AC87-EA3E80BF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A52CE-7C0C-4D4B-BF18-7625995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17139-DEB8-4314-8C33-5FE7BD94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FE8E0E-C33C-4A9A-B6E0-5D023B7D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60038-D1DD-442A-8473-6AC593FC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AB2C4-2862-4931-B1FF-A9C237DB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C842E-375C-487C-9A17-33211D16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46C89-61FA-4408-B7E1-19639452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59B0B-A819-47F1-BC43-C97464BA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7007F-7277-46EF-9A6E-C52498D6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4484-7DBB-4478-8AED-800FCB54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42EED-1B8B-4707-9496-93AE18A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E00DE-508D-4E58-8615-6DE39B6F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AA7FD-988F-47E7-A26A-CDE5C4D3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707357-11CD-4D21-9118-C6E6872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69E9D-6C58-484B-BA43-666A8D5A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326EC-23FA-488E-BA79-1533E58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49FA2-7250-4EDF-9D77-07D19766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26620-9097-4931-9849-E394AF60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C30C95-3C37-4549-A246-E3A29B07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9D0A0-7D54-481D-A282-5426F887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CFE6-0166-4FD6-949D-828FC1AF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C6646-5441-4948-A014-698322B6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CAAA2-F92A-495D-9194-D7005FC9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2D7F5-5C0C-4299-B2E2-ADDD4D3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64421-2FD1-46D5-A6F0-95C7EF1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33A4BA-6E95-4B46-B1CE-2CB4AE52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85668-93BE-4ABB-A9FD-C03D01D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D4A00-CA51-4C33-82B9-5A56E4A1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65147-4C54-4CC5-BB1E-29050E5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FD7F4-8AF3-4CA9-BB48-7DDF0239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C42E6B-695F-4626-866E-34ACDDF1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1D78-2B57-4B24-8F75-8387D894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4C82E-B1C9-4BD9-9396-283C33D6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21537-05FE-4C5A-83B2-E22BFFB4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7BB91E-0B7A-4956-872A-40A2759E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3357F-84D9-49D4-81EF-3E9BF2C2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C35224-B58A-4421-9B5A-510FE61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BE810-997C-4313-B6D4-9B1BD9EE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7B05F3-BEC9-44AB-8CA2-23222941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04D4A5-4CF2-4D87-AB3B-1E7A652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9EE962-52D0-431B-9CFD-163C57D9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D86C1-CFD1-4169-AA6A-01E883D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049C-650F-492F-AF9E-E9E15D62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B5E0BF-6207-47F9-A48D-7CDBE949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816483-D72D-400E-AE8A-796C7BE2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432AA-A2ED-4E56-BD34-618B51FD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07E5-6500-4DA2-87F5-B043CA50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C05A-3AE1-4BBE-BB43-63D90DEF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6E3C-FF39-47C4-B350-67E8B13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7D31-9957-4E69-B716-60D7DFF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1E2-3E16-4495-A7F1-EB9528AF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B183-E7D6-478D-950F-6C272B50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0DFE-DE70-4D87-BFB7-FA22F54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43D6A-BBFE-4BC7-BDEE-A0A0856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16DD-8B21-4BFE-9FD1-99103DF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22B3-9098-4F1F-9792-73BF7166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F3C0-6834-4D56-B116-91433BFF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711E-6C6B-40B0-8CB9-9CE2EB0A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4CD8-DE8D-45D1-A106-3BE23604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62D2-7762-45E1-A6EA-1A93BC7C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876A-ED2A-44BC-9F5E-16F61BE4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1BA-BEE8-4360-9218-C2BDE29F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D6B2-9CC8-4363-BBCA-188E193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B1E1-8646-4138-862A-97164F4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FBFF-A501-4E6A-B1C9-A27E16F3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7858-FF1C-4AE8-A355-8EF08B3E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7E022-8046-4A81-A436-FA91F6A5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F3A4-A94C-4C34-B970-E42EFFC2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DBD4-9590-4ACC-9646-53A41D43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E5E0B-732A-40AB-ADA9-9C5D68BF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03BA-63FB-43F4-8998-1CD61649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30D55-1813-4C15-9DD3-B242443A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5D8-DF8A-42C4-B0B4-72DF6D6B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026D-DF1B-4A3B-BCD4-A7568459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578E-6597-49FB-80C5-00BE88F7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71144-279C-4DF2-AFAC-1F8C2AD4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E615-D445-4D9B-88E0-62922378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22A07-94D1-489E-A75C-6B7D9256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58ED-ABBF-4A32-AEAB-435443F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B8C7-8A2D-4B4D-8221-509D9019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D3198-9F0F-45E5-ACDB-E3B0A6C8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9FA2F-B5D3-4055-8CEC-A7331FD9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B6F0-30A5-4287-B0E2-5406A889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A1F-0B10-4648-A182-5956EE09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FC067-E39C-454A-8A74-A95E5390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E9050-6CB9-4BB5-89D1-FB23F955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66D22-10B1-435A-A599-60581CBA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5B71-7151-453D-A43B-E863AC48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309F9-5F51-41E6-805F-560BBDF7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8769-EC73-4366-B939-F0D0FB4F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7F0DB-9514-4773-AB6D-DA312F07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3D900-013C-47E3-BF3F-9F5ACB5B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F131-4660-4131-857B-ABC9A88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AF778-468B-4107-AFC9-59F2F531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FF4-010A-4503-8E02-096E8597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E4A34-D29E-413E-95F1-68FF48D1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ED277-C328-4094-ADEB-F84713AA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568E3-B434-48F1-AD9B-B5419C7F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D69DD-81AE-48E7-A2B2-0304887E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19686-6E04-49EE-AB40-CB20F10C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B7778-963A-4060-842D-85AE9D81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B2CB8-5343-49F4-98C8-EBC65F79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299A-3654-40AF-B0F4-D6D55891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E3541-B5D1-4489-B333-2805A654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20267-8FBD-46B7-A71E-2606854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726-D3AA-443F-8D20-1965F4D2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C680-A26F-4820-B156-BA852629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FE9B9-6717-425E-8EBB-98C7B400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B055E-123A-4FDE-B8C0-38D42501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9BF5-910F-4C37-A256-A3291DF6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350C0-EE6F-4A98-9E39-BE42E455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AF88E-DDA5-43EE-A139-718A8E95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9DD47-DD4B-4513-A975-CFA0BD63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28BB3-9E51-4618-A3A5-3188D7A8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06F89-2089-4E85-B413-65ED1739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434C1-9D80-45FD-8581-27CFC4AF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2C6-5E97-45C8-A72D-D9CB499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0D83C-C886-4E23-8D27-34D304D4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1ECD3-C2FB-413E-B146-E78B5F5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2E93A-D7E5-4153-B5C7-94494BC1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B4EEA-6446-401E-A667-9DFF8F3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BD710-21CE-4AC5-A483-8068BB01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4435D-DC15-4750-AC33-60ED5CBD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E2058-2DD3-477B-B2C2-551CC86A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E3B60-F064-4D64-814F-900AF695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7C289-DCE0-43BF-A660-AFB88E99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62A33-0D9B-49D0-B439-FB07E4AF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E88-933B-4B62-9153-A6B1D5B0C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0A8D-DC39-48CC-B920-AA56CE9A2C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6058-D008-4142-AC91-9E8A47F097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0B7A-4673-4A38-9112-82C4230DBB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F343-077A-4E88-977F-C2485241A1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9D8B-42BA-47BF-9584-04843EC54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5A78-E945-4EC4-8A20-180D28551D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DBA1-D4B7-4157-A40A-2267248E7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31BF-47AB-405D-94C2-247EBDDFC4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D9A0-6219-4C4C-9B90-359B2971C1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3662-CA69-427B-92EF-31FE893187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649F-2348-405A-97A2-F569BF8105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226-972F-4711-9A99-8DF2FA4E0A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56A1-9B37-4E16-A1A3-C4760E736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BC1E-2FEF-4C26-9C63-C10B347AD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898F-5BFA-4EAE-9B6A-E864A43A3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E9E3-9EB0-4890-AD19-A39A1DDA7B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0E4C-1903-4CBC-A999-FBE301056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8D9E-2E17-41EE-9F68-6F0B21F90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9F40-F6DB-466D-AB90-10835A2170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4D0D-83A3-4E18-8F43-ABA047A22B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2DC-2EDB-47C4-A801-7EDC3A33A9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053D-7E46-4A36-AD63-7B9AD276E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2073-25D6-43B1-AD05-1B5B16D56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A3AC-9894-4A9B-816F-62CC93F6A9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F162-F17F-4E2C-8A96-75652F8A21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EF20-CFF9-48D6-9CC0-041C87F27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60A5-B4C9-4415-A8D6-C961992D7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CB2F-87F5-4C17-9048-D59ED86777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9323-03BC-4B6A-B84C-ABD4637B7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1B8E-BD9B-4D1D-9B05-367BE47BA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012A-2864-414F-9F5C-090999398B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AC80-2DDC-428F-9339-3D5E48BA07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BF49-E8A1-4F01-AE42-4777B6B16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4DFF-9983-4068-BABB-1037FC260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5FDA-2786-4F1A-8C7C-60AC7AB41E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53E4-9828-4BEA-8A28-67A4F2C2A4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948E-31C8-4278-99D1-12375859FE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F4C5-3C0C-4254-B285-6AC1DD407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8F5D-67D3-47AA-B240-F250B71055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7120" y="3078000"/>
            <a:ext cx="842976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804960" y="1461960"/>
            <a:ext cx="7534080" cy="3934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3"/>
          <a:stretch/>
        </p:blipFill>
        <p:spPr>
          <a:xfrm>
            <a:off x="1403280" y="21272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4"/>
          <a:stretch/>
        </p:blipFill>
        <p:spPr>
          <a:xfrm>
            <a:off x="1403280" y="27748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5"/>
          <a:stretch/>
        </p:blipFill>
        <p:spPr>
          <a:xfrm>
            <a:off x="1403280" y="399888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829640" cy="4895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868400" y="2198520"/>
            <a:ext cx="471600" cy="438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908000" y="43592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391160" cy="42861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7763040" cy="55245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1868400" y="1773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1868400" y="2558880"/>
            <a:ext cx="471600" cy="438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4"/>
          <a:stretch/>
        </p:blipFill>
        <p:spPr>
          <a:xfrm>
            <a:off x="1908000" y="32781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5"/>
          <a:stretch/>
        </p:blipFill>
        <p:spPr>
          <a:xfrm>
            <a:off x="1908000" y="393372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153280" cy="5524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1692360" y="4653000"/>
            <a:ext cx="471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857160" y="2638440"/>
            <a:ext cx="7410600" cy="42195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000080" y="714240"/>
            <a:ext cx="7267680" cy="18288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3"/>
          <a:stretch/>
        </p:blipFill>
        <p:spPr>
          <a:xfrm>
            <a:off x="1332000" y="765000"/>
            <a:ext cx="471240" cy="438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4"/>
          <a:stretch/>
        </p:blipFill>
        <p:spPr>
          <a:xfrm>
            <a:off x="1258920" y="263700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5"/>
          <a:stretch/>
        </p:blipFill>
        <p:spPr>
          <a:xfrm>
            <a:off x="1258920" y="515772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296200" cy="4524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1619280" y="335124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1619280" y="39988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5"/>
          <a:stretch/>
        </p:blipFill>
        <p:spPr>
          <a:xfrm>
            <a:off x="1619280" y="464652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6"/>
          <a:stretch/>
        </p:blipFill>
        <p:spPr>
          <a:xfrm>
            <a:off x="1619280" y="5294160"/>
            <a:ext cx="4716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1147680" y="1566720"/>
            <a:ext cx="68486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02944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6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